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0E4-0992-47B6-9BE9-C36A7780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05EE-2940-417A-982E-8524879F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3D1-8EBA-4AE8-93E5-A35A26EC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E58-00BA-4AE4-9F32-92B587F9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44A-9101-4270-B0DB-565D5AC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BF1-36BE-4A99-A176-6912C28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A2E-8D28-432C-8B8C-50600D6E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6C9-088B-4289-B4D1-E248F80D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581-F142-44A9-B9BA-21FA6C4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210-A874-4D54-8F50-4544EE7B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FC9-B9D8-4DA2-979B-2188B85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461-FE59-4139-BA2B-CE7AE80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4BE8-C0D6-4340-9283-3FC13A95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strangelo Edessa"/>
              </a:rPr>
              <a:t>Ropa Catálogo de Estacio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By: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Kaley Brudner</a:t>
            </a:r>
            <a:r>
              <a:rPr b="0" lang="en-US" sz="3200" spc="-1" strike="noStrike">
                <a:solidFill>
                  <a:srgbClr val="000000"/>
                </a:solidFill>
                <a:latin typeface="Estrangelo Edessa"/>
              </a:rPr>
              <a:t> &amp; </a:t>
            </a:r>
            <a:r>
              <a:rPr b="0" lang="en-US" sz="3200" spc="-1" strike="noStrike">
                <a:solidFill>
                  <a:srgbClr val="bbe0e3"/>
                </a:solidFill>
                <a:latin typeface="Estrangelo Edessa"/>
              </a:rPr>
              <a:t>Samantha Gre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ench Script MT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French Script MT"/>
              </a:rPr>
              <a:t>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Julissa lleva abrigo largo, blanco y marrón, los pantalones, marrónes, y botas, marrón. Ella es muy cómodo!</a:t>
            </a:r>
            <a:r>
              <a:rPr b="0" lang="en-US" sz="2400" spc="-1" strike="noStrike">
                <a:solidFill>
                  <a:srgbClr val="000000"/>
                </a:solidFill>
                <a:latin typeface="Haettenschweile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Lola lleva una camisa, roja y blanca, y pantalones, negro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Ella es con esti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2943360"/>
            <a:ext cx="2438280" cy="391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sweater"/>
          <p:cNvPicPr/>
          <p:nvPr/>
        </p:nvPicPr>
        <p:blipFill>
          <a:blip r:embed="rId3"/>
          <a:stretch/>
        </p:blipFill>
        <p:spPr>
          <a:xfrm>
            <a:off x="6629400" y="2743200"/>
            <a:ext cx="220968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6200" y="4648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uice ITC"/>
              </a:rPr>
              <a:t>Ropa para </a:t>
            </a:r>
            <a:r>
              <a:rPr b="1" lang="en-US" sz="4400" spc="-1" strike="noStrike">
                <a:solidFill>
                  <a:srgbClr val="ffcc00"/>
                </a:solidFill>
                <a:latin typeface="Juice ITC"/>
              </a:rPr>
              <a:t>la primave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Sara lleva una blusa, gris y blanca, una cinturón, marrón, y pantalones cortos, azules. Tambien, una pulsera, plata. Ella es muy lind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uice ITC"/>
              </a:rPr>
              <a:t>Clara lleva una blusa, amarillo y blanca, pantalones, negros, y pulsera, ora. Ella es muy boni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243828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867280" y="1371600"/>
            <a:ext cx="2146320" cy="32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Ropa para el </a:t>
            </a:r>
            <a:r>
              <a:rPr b="0" lang="en-US" sz="4400" spc="-1" strike="noStrike">
                <a:solidFill>
                  <a:srgbClr val="99cc00"/>
                </a:solidFill>
                <a:latin typeface="Haettenschweiler"/>
              </a:rPr>
              <a:t>veran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Cassidy lleva traje de baño, azul, violeta, y negra. se traje de un bikini. Ella es muy perfec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Haettenschweiler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Haettenschweiler"/>
              </a:rPr>
              <a:t>Cassidy lleva traje de baño, rojo, azul, y amarillo. Ella es muy de mo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571400" cy="24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2066760" cy="318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Ropa Para el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Constantia"/>
              </a:rPr>
              <a:t>Oto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Laura lleva un vestido, blanco y rosado. Tambien, una pulsera, brillante y plata. Ella es muy est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eestyle Script"/>
              </a:rPr>
              <a:t>Grace lleva camisa, amarilla y gris, un cinturón, blanco y amarillo, pantalones, negro, y una pulsera, pl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247840" cy="337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946920" y="1143000"/>
            <a:ext cx="219708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Constantia"/>
              </a:rPr>
              <a:t>Mode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nstantia"/>
              </a:rPr>
              <a:t>Unas 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Vestido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RESS"/>
          <p:cNvPicPr/>
          <p:nvPr/>
        </p:nvPicPr>
        <p:blipFill>
          <a:blip r:embed="rId2"/>
          <a:stretch/>
        </p:blipFill>
        <p:spPr>
          <a:xfrm>
            <a:off x="4800600" y="2895480"/>
            <a:ext cx="2197080" cy="3219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DRESS"/>
          <p:cNvPicPr/>
          <p:nvPr/>
        </p:nvPicPr>
        <p:blipFill>
          <a:blip r:embed="rId3"/>
          <a:stretch/>
        </p:blipFill>
        <p:spPr>
          <a:xfrm>
            <a:off x="699768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371600" y="2895480"/>
            <a:ext cx="2146320" cy="3219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DRESS"/>
          <p:cNvPicPr/>
          <p:nvPr/>
        </p:nvPicPr>
        <p:blipFill>
          <a:blip r:embed="rId5"/>
          <a:stretch/>
        </p:blipFill>
        <p:spPr>
          <a:xfrm>
            <a:off x="3048120" y="2895480"/>
            <a:ext cx="2211120" cy="321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0" y="2895480"/>
            <a:ext cx="2147760" cy="3222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French Script MT"/>
              </a:rPr>
              <a:t>Catálogo realizado por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000" spc="-1" strike="noStrike">
                <a:solidFill>
                  <a:srgbClr val="0099cc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Haettenschweiler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Ka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Is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Haettenschweiler"/>
              </a:rPr>
              <a:t>Brud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6019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aettenschweiler"/>
              </a:rPr>
              <a:t>G           R           A           C           I           A          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3:12:48Z</dcterms:created>
  <dc:creator>Kaley</dc:creator>
  <dc:description/>
  <dc:language>en-US</dc:language>
  <cp:lastModifiedBy>Kaley</cp:lastModifiedBy>
  <dcterms:modified xsi:type="dcterms:W3CDTF">2012-01-16T23:26:15Z</dcterms:modified>
  <cp:revision>4</cp:revision>
  <dc:subject/>
  <dc:title>Ropa Catálogo de Estaciones </dc:title>
</cp:coreProperties>
</file>